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517E-92C2-4CD5-9B94-7A79E1E1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B4E6-0F98-4ACE-BDEB-EFC36632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F4FD-8DC6-4444-A920-A67BEC423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DD14-7777-48FB-AB88-1D7D324BA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EE61-E83C-40AC-BE78-EA6BA852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BE86-FCB6-41A8-ABF4-AAC75B7A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4A1E-3A75-4E91-8D0D-7E3D25F1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6F13-A394-4E11-852F-BACBA2E8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CA0C-C734-42D6-BAE9-360C3EBB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77A5-496B-4C2E-81F9-580DF3DE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CC69-F2DF-4822-BBB5-790F6A5E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4590-985B-4DD9-A914-060599AB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C74B-C1BB-483C-98D2-D309C235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82C4-2AFE-428F-B1D2-BAE683C1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074D-ABCB-4AD1-8271-7BD9E8D5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F137-26B2-45BB-9029-80737C86B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2C10-9D41-4F98-9F82-0AF713856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A3B6-EE41-4F36-A11D-BBF3B050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F5D1-A56D-4B52-B0A7-5A0A7EBF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BE31-9FB9-4523-8510-8FF183CD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316F-2943-448A-9690-E147B503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84D8-474C-4A2D-B033-5B43CF48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DE35-E119-4E58-9F74-0FC9F3F0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ADEA-803A-4FA6-AA44-DBB82C49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9970-DA93-4C53-ADAE-CA6D9E498E0F}" type="datetime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C800-C1E7-4391-92B1-A53C91554829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EF3B-DC9F-4A11-8FF0-CB31507BE495}" type="datetime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4CB9-555A-46D6-AAA5-F1633FCFBD43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Dichiarazione dei Diritti del Fanciullo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Approvata il 20 novembre 1959</a:t>
            </a:r>
            <a:br>
              <a:rPr sz="4400"/>
            </a:b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dall'Assemblea Generale delle Nazioni Unite </a:t>
            </a:r>
            <a:br>
              <a:rPr sz="4400"/>
            </a:b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e revisionata nel 1989</a:t>
            </a: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p. Luigi Torchio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59FA-87E8-44E1-B5F7-56BD8DDD112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F4ED9D-0F0E-45DC-894D-C8A0BC94AE9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Principio nono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il fanciullo deve essere protetto contro ogni forma di negligenza, di crudeltà o di sfruttamento. Egli non deve essere sottoposto a nessuna forma di tratta. Il fanciullo non deve essere inserito nell'attività produttiva prima di avere raggiunto un'età minima adatta. In nessun caso deve essere costretto o autorizzato ad assumere un'occupazione o un impiego che nuocciano alla sua salute o che ostacolino il suo sviluppo fisico, mentale o morale. </a:t>
            </a:r>
            <a:br>
              <a:rPr sz="3600"/>
            </a:br>
            <a:endParaRPr b="0" lang="en-US" sz="36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sp. Luigi Torchio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7B7C-8E11-48C8-97B7-CCCFC772BC3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82A4FA0-2BD3-48DF-9068-63295130A71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Principio decimo: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734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il fanciullo deve essere protetto contro le pratiche che possono portare alla discriminazione razziale, alla discriminazione religiosa e ad ogni altra forma di discriminazione. Deve essere educato in uno spirito di comprensione, di tolleranza, di amicizia fra i popoli, di pace e di fratellanza universale, e nella consapevolezza che deve consacrare le sue energie e la sua intelligenza al servizio dei propri simili. </a:t>
            </a:r>
            <a:endParaRPr b="0" lang="en-US" sz="36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sp. Luigi Torchio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E3E5-D4D5-4A8A-AE02-BC08070065C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044FD80-670F-4097-A2AA-3A21D529EC7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-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Principio primo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1920" y="8377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il fanciullo deve godere di tutti i diritti enunciati nella presente Dichiarazione. Questi diritti debbono essere riconosciuti a tutti i fanciulli senza eccezione alcuna, e senza distinzione e discriminazione fondata sulla razza, il colore, il sesso, la lingua, la religione, le opinioni politiche o di altro genere, l'origine nazionale o sociale, le condizioni economiche, la nascita, o ogni altra condizione, che si riferisca al fanciullo stesso o alla sua famiglia. </a:t>
            </a:r>
            <a:br>
              <a:rPr sz="3600"/>
            </a:br>
            <a:endParaRPr b="0" lang="en-US" sz="36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sp. Luigi Torchio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36BC-1E19-4E60-9DDC-F631C962E18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543AAB8-BC66-4A9A-AD39-FD6D2F497EA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Principio secondo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402000"/>
                </a:solidFill>
                <a:latin typeface="Times New Roman"/>
              </a:rPr>
              <a:t>il fanciullo deve beneficiare di una speciale protezione e godere di possibilità e facilitazioni, in base alla legge e ad altri provvedimenti, in ;odo da essere in grado di crescere in modo sano e normale sul piano fisico, intellettualem morale, spirituale e sociale, in condizioni di libertà e di dignità. Nell'adozione delle leggi rivolte a tal fine, la considerazione determinante deve essere il superiore interesse del fanciullo. </a:t>
            </a:r>
            <a:br>
              <a:rPr sz="3600"/>
            </a:br>
            <a:endParaRPr b="0" lang="en-US" sz="36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sp. Luigi Torchio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15CD-8C98-4926-A3FF-8B95D1FA3BE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C08FA3B-0723-400F-89AA-8F006B6325F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Principio terzo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3352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02000"/>
                </a:solidFill>
                <a:latin typeface="Times New Roman"/>
              </a:rPr>
              <a:t>il fanciullo ha diritto, sin dalla nascita, a un nome e una nazionalità. </a:t>
            </a:r>
            <a:endParaRPr b="0" lang="en-US" sz="7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sp. Luigi Torchio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C980-A3B6-4999-B39F-940CE58A7D0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B5043EB-0220-47FA-881A-93E05C7D2F9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Principio quarto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92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il fanciullo deve beneficare della sicurezza sociale. Deve poter crescere e svilupparsi in modo sano. A tal fine devono essere assicurate, a lui e alla madre le cure mediche e le protezioni sociali adeguate, specialmente nel periodo precedente e seguente alla nascita. Il fanciullo ha diritto ad una alimentazione, ad un alloggio, a svaghi e a cure mediche adeguate. </a:t>
            </a:r>
            <a:endParaRPr b="0" lang="en-US" sz="36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sp. Luigi Torchio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341C-7C2D-410E-B9F4-3238CACC04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4C588CD-CFEF-48EA-8B98-862684642CF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Principio quinto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il fanciullo che si trova in una situazione di minoranza fisica, mentale o sociale ha diritto a ricevere il trattamento, l'educazione e le cure speciali di cui esso abbisogna per il suo stato o la sua condizione. </a:t>
            </a:r>
            <a:br>
              <a:rPr sz="4400"/>
            </a:b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sp. Luigi Torchio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CD2A-FDFF-4B11-8B5E-983A738A7E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4AD75FD-ACC6-46B9-B9F5-0E2870F7B52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Principio sesto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52280" y="99036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l fanciullo, per lo sviluppo armonioso della sua personalità ha bisogno di amore e di comprensione. Egli deve, per quanto è possibile, crescere sotto le cure e la responsabilità dei genitori e, in ogni caso, in atmosfera d'affetto e di sicurezza materiale e morale. Salvo circostanze eccezionali, il bambino in tenera età non deve essere separato dalla madre. la società e i poteri pubblici hanno il dovere di aver cura particolare dei fanciulli senza famiglia o di quelli che non hanno sufficienti mezzi di sussistenza. E' desiderabile che alle famiglie numerose siano concessi sussidi statali o altre provvidenze per il mantenimento dei figli. </a:t>
            </a: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sp. Luigi Torchio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01D8-0F6C-4E34-A788-5BBAC82659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8F7875C-ED09-4163-AFA1-1FD419116A7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Principio settimo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il fanciullo ha diritto a una educazione, che, almeno a livello elementare deve essere gratuita e obbligatoria. Egli ha diritto a godere di una educazione che contribuisca alla sua cultura generale e gli consenta, in una situazione di eguaglianza e di possibilità, di sviluppare le sue facoltà, il suo giudizio personale e il suo senso di responsabilità morale e sociale, e di divenire un membro utile alla società. Il superiore interesse del fanciullo deve essere la guida di coloro che hanno la responsabilità della sua educazione e del suo orientamento; tale responsabilità incombe in primo luogo sui propri genitori. Il fanciullo deve avere tutte le possibilità di dedicarsi a giuochi e attività ricreative che devono essere orientate a fini educativi; la società e i poteri pubblici devono fare ogni sforzo per favorire la realizzazione di tale diritto. </a:t>
            </a:r>
            <a:br>
              <a:rPr sz="4400"/>
            </a:b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sp. Luigi Torchio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DB1E-BA87-4C8F-A90B-B7B73A10EE8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44D958F-A16D-4305-A995-D3CEF4F2546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Principio ottavo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000" spc="-1" strike="noStrike">
                <a:solidFill>
                  <a:srgbClr val="402000"/>
                </a:solidFill>
                <a:latin typeface="Times New Roman"/>
              </a:rPr>
              <a:t>in tutte le circostanze, il fanciullo deve essere fra i primi a ricevere protezione e soccorso.</a:t>
            </a:r>
            <a:endParaRPr b="0" lang="en-US" sz="60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sp. Luigi Torchio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4A92-4E13-476F-ADDC-4092FEEEDFB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0144632-EAEA-4839-8420-A69DBDE3D98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3T14:03:11Z</dcterms:created>
  <dc:creator>iSP. Luigi Torchio</dc:creator>
  <dc:description/>
  <dc:language>en-US</dc:language>
  <cp:lastModifiedBy>Ispettore Luigi Torchio - Dir. Scol. Reg. FVG</cp:lastModifiedBy>
  <cp:lastPrinted>2000-01-23T21:37:06Z</cp:lastPrinted>
  <dcterms:modified xsi:type="dcterms:W3CDTF">2002-08-14T22:00:17Z</dcterms:modified>
  <cp:revision>7</cp:revision>
  <dc:subject/>
  <dc:title>Dichiarazione Universale dei Diritti dell'Uomo  adottata dall'Assemblea Generale delle Nazioni Unite il 10 dicembre 1948  </dc:title>
</cp:coreProperties>
</file>